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879-684A-4DB3-AB1B-479E3E2C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948-C0B0-4F3D-81CC-4971301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A32-1634-4ADD-ACC6-073831CE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C8C-624E-43A7-A3FB-E08299A7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FA4-B99C-40E8-A884-CEF1D936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27-595F-4573-9BBE-C066EA63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7D2-8548-4ADB-85EE-30EB0292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923-9E39-4CC8-B607-662B6B3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E26-9506-4043-A74D-CD6B008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A7A-5633-4570-8CDC-153E598F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CD4-0F28-47A2-86CE-4C6E9E8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90E-1445-49AB-8FEE-C3FFF62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4F9-DD5E-46CC-A3F2-48C3EF6F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57200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hiboux font ‘hou!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43434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hiboux. Et to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48769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Hou! Houuuuuuuuuuu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8098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Cette fois, j’ai peur. J’ai pe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Toi as-tu pe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581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Oui j’ai pe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95288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Alors, qu’est-ce qu’on fa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426708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5720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La f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876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 </a:t>
            </a:r>
            <a:r>
              <a:rPr b="0" lang="fr-FR" sz="3200" spc="-1" strike="noStrike">
                <a:solidFill>
                  <a:srgbClr val="99ff66"/>
                </a:solidFill>
                <a:latin typeface="Arial"/>
              </a:rPr>
              <a:t>Je n’ai pas peur de grimper aux ar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257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33"/>
                </a:solidFill>
                <a:latin typeface="Arial"/>
              </a:rPr>
              <a:t>Je n’ai pas peur des bourd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0292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 me balancer très ha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54864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ff66"/>
                </a:solidFill>
                <a:latin typeface="Arial"/>
              </a:rPr>
              <a:t>Je me balance jusqu’au cie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449568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648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serpents géants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800600"/>
            <a:ext cx="7696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343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serpents dans l’e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181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hors la n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800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ans le no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0:47Z</dcterms:created>
  <dc:creator>CVJH-LAB</dc:creator>
  <dc:description/>
  <dc:language>en-US</dc:language>
  <cp:lastModifiedBy>nield411</cp:lastModifiedBy>
  <dcterms:modified xsi:type="dcterms:W3CDTF">2008-03-05T22:04:34Z</dcterms:modified>
  <cp:revision>3</cp:revision>
  <dc:subject/>
  <dc:title>Slide 1</dc:title>
</cp:coreProperties>
</file>